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9E4-7664-4CAA-8CC0-8732DCD9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4BB-6D65-487A-923F-E5559B8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48E-295D-4FE6-A238-0C3E2BAD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FB5-F5E9-4E19-B532-CCB9CA5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FED0-1D7D-474D-993B-1AC44125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5B0-EE10-4513-8F61-6A0E6F47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4975-E594-4F60-8BB5-FBD5128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629B-432C-4024-90DD-DA33D56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E2B2-AECC-4A09-BD59-3140B7C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3531-0D60-4382-8144-918C7EA6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63CF-DA4F-4895-9EFB-C587851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B10-84E0-4B04-B902-07BE3C72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C650-7EA0-453D-ADD5-6D512F7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30B-6715-40CD-964D-48154420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9101-CCCC-436D-B9A0-E28E6B81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B0F6-361C-4C45-A871-5A21A54D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9206-31AC-4091-9544-3324B13D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D9B-913C-437F-A677-25E9CF25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E07-153B-4F1B-9A6F-1EEAAAE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ADD-58E8-4A9C-A272-723D878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B76-106E-417F-A4B6-BC20647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AAD-CC11-44B7-B5B5-D512BC5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05B-C6B8-4A8B-A5DD-B77694B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269-8AD4-4D33-BBD7-2A99A05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B7F-6377-4149-9BD0-80C66EBE9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6019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1F65-6F63-4630-97DF-685D2ACB0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Sir, We Would See Jes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arter 9, Lesson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ges 32-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no. 4:46-54; Luke 4:16-36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t. 4:13-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7D25-4553-4C98-9490-C55E089D8785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ajor Points of This Less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ilean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ostles 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23D-7664-49D5-81F3-2A03B61FF200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A Nobleman Meets Jesus With a Requ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had reached Cana (see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was returning from Jerusa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bleman was from Capern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3235320"/>
            <a:ext cx="6410520" cy="362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>
            <a:off x="3352680" y="4876560"/>
            <a:ext cx="533520" cy="19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580920" y="4724280"/>
            <a:ext cx="129564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84E-1229-4983-B7CB-498579EF6234}" type="slidenum">
              <a:t>3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he Healing of the Nobleman’s S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ea to heal hi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bing of his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mise that his son would l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of of Jesus’ De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ing at a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ing instantane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form of the Nobleman’s whole house (conviction in Jesu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4:46-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F95-B50A-4B74-9A6C-C1D9290D7A97}" type="slidenum">
              <a:t>4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he First Rejection at Nazare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4038480"/>
            <a:ext cx="914400" cy="3812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10080" y="914400"/>
            <a:ext cx="3733920" cy="2600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1143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dern Nazar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3809880" cy="25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ABA-9642-4434-AA95-002A20632B2C}" type="slidenum">
              <a:t>5</a:t>
            </a:fld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In His Hometown of Nazare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Preaches The Truth In The Synago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s from Isaiah 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ims that He is the Messiah predi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message infuriates the aud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ttempt to kill Him, but He esc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838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ke 4:16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9F7-8D55-4D2D-9D07-0E12DC952E36}" type="slidenum">
              <a:t>6</a:t>
            </a:fld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Jesus Moves to Caperna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ernaum becomes His headquar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ulfills Isaiah 9: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. 4:13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4C9-3ADF-4AD4-AB79-937B598E957B}" type="slidenum">
              <a:t>7</a:t>
            </a:fld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257800" y="1295280"/>
            <a:ext cx="91440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86400" y="38088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perna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329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029200" y="4038480"/>
            <a:ext cx="4114800" cy="264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6248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ins of ancient Caperna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95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roaching Capernaum from the 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A92-6F37-4BE8-BE42-E5185E2B4B58}" type="slidenum">
              <a:t>8</a:t>
            </a:fld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Jesus Calls Four Disci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Peter’s boat, He taught the mult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ching a haul of fish at Jesus’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’s sense of sin in the presence of true grea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ing Peter, Andrew, James, and John to set their sights on being “fishers of m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95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 1:16-20; Matt. 4:18-22; Luke 5:1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0CC-2827-4F6E-8FEA-4E11990D1569}" type="slidenum">
              <a:t>9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4:13:58Z</dcterms:created>
  <dc:creator>Terry W. Benton</dc:creator>
  <dc:description/>
  <dc:language>en-US</dc:language>
  <cp:lastModifiedBy>Frank D Vines</cp:lastModifiedBy>
  <dcterms:modified xsi:type="dcterms:W3CDTF">2006-08-02T23:26:34Z</dcterms:modified>
  <cp:revision>14</cp:revision>
  <dc:subject/>
  <dc:title>Sir, We Would See Jesus</dc:title>
</cp:coreProperties>
</file>